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57CC0-4096-4D80-BBE2-A35CEAB84A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3F97B-53A8-4EC6-9E6F-A16D76A0B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86314-12DF-4094-A46B-2DA382C1B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1C16A-5A97-4B52-A8CA-E1DD758F4E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87B01-7510-4041-81C6-B3673777D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79BB3-1E62-4731-81B7-E8E571949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59516-C225-4A79-984A-BCB8755F7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2295B-E357-4DEE-A896-FC9FF6762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D7E9D-A1A5-4EEF-84E5-19C74DC01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390F4-589F-46EC-A6A5-E76A462C3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FB114-AA86-4550-B377-AC223AD94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6B971-F460-437E-8D4F-23EC4947D7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68760" rIns="68760" tIns="34200" bIns="342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68760" rIns="68760" tIns="34200" bIns="342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898989"/>
                </a:solidFill>
                <a:latin typeface="Arial"/>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68760" rIns="6876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A7D13-64E2-48BA-B48E-8B666E587594}" type="slidenum">
              <a:rPr b="0" lang="tr-TR"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99640" y="572760"/>
            <a:ext cx="7993080" cy="4321080"/>
          </a:xfrm>
          <a:prstGeom prst="rect">
            <a:avLst/>
          </a:prstGeom>
          <a:noFill/>
          <a:ln w="0">
            <a:noFill/>
          </a:ln>
        </p:spPr>
        <p:txBody>
          <a:bodyPr lIns="68760" rIns="68760" tIns="34200" bIns="34200" anchor="b">
            <a:noAutofit/>
          </a:bodyPr>
          <a:p>
            <a:pPr indent="0" algn="ctr">
              <a:lnSpc>
                <a:spcPct val="15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600" spc="-1" strike="noStrike">
                <a:solidFill>
                  <a:srgbClr val="000000"/>
                </a:solidFill>
                <a:latin typeface="Times New Roman"/>
                <a:ea typeface="Times New Roman"/>
              </a:rPr>
              <a:t>15.HAFTA</a:t>
            </a:r>
            <a:br>
              <a:rPr sz="3600"/>
            </a:br>
            <a:r>
              <a:rPr b="1" lang="tr-TR" sz="3600" spc="-1" strike="noStrike">
                <a:solidFill>
                  <a:srgbClr val="000000"/>
                </a:solidFill>
                <a:latin typeface="Times New Roman"/>
                <a:ea typeface="Times New Roman"/>
              </a:rPr>
              <a:t>ŞİİR  İNCELEMESİ</a:t>
            </a:r>
            <a:br>
              <a:rPr sz="3600"/>
            </a:br>
            <a:br>
              <a:rPr sz="3600"/>
            </a:br>
            <a:br>
              <a:rPr sz="3600"/>
            </a:b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395280" y="339840"/>
            <a:ext cx="7848720" cy="4535280"/>
          </a:xfrm>
          <a:prstGeom prst="rect">
            <a:avLst/>
          </a:prstGeom>
          <a:noFill/>
          <a:ln w="0">
            <a:noFill/>
          </a:ln>
        </p:spPr>
        <p:txBody>
          <a:bodyPr lIns="68760" rIns="68760" tIns="34200" bIns="34200" anchor="t">
            <a:noAutofit/>
          </a:bodyPr>
          <a:p>
            <a:pPr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	</a:t>
            </a:r>
            <a:r>
              <a:rPr b="0" lang="tr-TR" sz="2400" spc="-1" strike="noStrike">
                <a:solidFill>
                  <a:srgbClr val="000000"/>
                </a:solidFill>
                <a:latin typeface="Calibri"/>
              </a:rPr>
              <a:t>Cahit Sıtkı,  mısralarında diğer bir çok şairin aksine semboller yerine müşahhas yani gerçek görünüşleri kullanır. Gördüklerini ve duyduklarını adetâ objektif olarak ele alır. Cahit Sıtkı, şiirlerinde bir takım imaj ve sembollere başvursa da bunlar gerçeğe yakın imaj ve sembollerdir. Cahit Sıtkı, diğer şairlere nazaran duyularının verilerine daha çok bağlıdır. </a:t>
            </a:r>
            <a:endParaRPr b="0" lang="en-US" sz="2400" spc="-1" strike="noStrike">
              <a:solidFill>
                <a:srgbClr val="000000"/>
              </a:solidFill>
              <a:latin typeface="Calibri"/>
            </a:endParaRPr>
          </a:p>
          <a:p>
            <a:pPr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	</a:t>
            </a:r>
            <a:r>
              <a:rPr b="0" lang="tr-TR" sz="2400" spc="-1" strike="noStrike">
                <a:solidFill>
                  <a:srgbClr val="000000"/>
                </a:solidFill>
                <a:latin typeface="Calibri"/>
              </a:rPr>
              <a:t>Otuz beş Yaş Şiiri’nin üslup bakımından dikkati çeken bir başka özelliği, günlük konuşma dilinde kullanılan bazı terimlerin biraz değiştirilerek şiire sokulmuş olmasıdır.</a:t>
            </a:r>
            <a:r>
              <a:rPr b="0" lang="tr-TR" sz="2400" spc="-1" strike="noStrike">
                <a:solidFill>
                  <a:srgbClr val="000000"/>
                </a:solidFill>
                <a:latin typeface="Calibri"/>
              </a:rPr>
              <a:t>	</a:t>
            </a:r>
            <a:r>
              <a:rPr b="0" lang="tr-TR" sz="2400" spc="-1" strike="noStrike">
                <a:solidFill>
                  <a:srgbClr val="000000"/>
                </a:solidFill>
                <a:latin typeface="Calibri"/>
              </a:rPr>
              <a:t>Örneğin, «yalvarmak yakarmak nafile bugün», «gözünün yaşına bakmamak», «güler yüzlü adam», «hayal meyal şeyler», «dostlarla da yolların ayrılması», «geç fark etmek» vb.</a:t>
            </a:r>
            <a:endParaRPr b="0" lang="en-US" sz="2400" spc="-1" strike="noStrike">
              <a:solidFill>
                <a:srgbClr val="000000"/>
              </a:solidFill>
              <a:latin typeface="Calibri"/>
            </a:endParaRPr>
          </a:p>
          <a:p>
            <a:pPr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474480" y="484200"/>
            <a:ext cx="7769160" cy="4464000"/>
          </a:xfrm>
          <a:prstGeom prst="rect">
            <a:avLst/>
          </a:prstGeom>
          <a:noFill/>
          <a:ln w="0">
            <a:noFill/>
          </a:ln>
        </p:spPr>
        <p:txBody>
          <a:bodyPr lIns="68760" rIns="68760" tIns="34200" bIns="34200" anchor="t">
            <a:no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	</a:t>
            </a:r>
            <a:r>
              <a:rPr b="0" lang="tr-TR" sz="2400" spc="-1" strike="noStrike">
                <a:solidFill>
                  <a:srgbClr val="000000"/>
                </a:solidFill>
                <a:latin typeface="Calibri"/>
              </a:rPr>
              <a:t>Şair, günlük dilde kullanılan bu deyimleri başına sonuna bazı kelimeler ekleyerek şiirine malzeme yapıyor. Cahit Sıtkı’nın şiirdeki gayesi şiirini sade ve tabiî olarak söylemektir. </a:t>
            </a:r>
            <a:r>
              <a:rPr b="0" lang="tr-TR" sz="2400" spc="-1" strike="noStrike">
                <a:solidFill>
                  <a:srgbClr val="000000"/>
                </a:solidFill>
                <a:latin typeface="Calibri"/>
                <a:ea typeface="Times New Roman"/>
              </a:rPr>
              <a:t>Şair, bu düşünceyle şiir sentaksını da çok basit tutar ve mısralarının çoğunu tek cümleden oluşturur. </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ea typeface="Times New Roman"/>
              </a:rPr>
              <a:t>	</a:t>
            </a:r>
            <a:r>
              <a:rPr b="0" lang="tr-TR" sz="2400" spc="-1" strike="noStrike">
                <a:solidFill>
                  <a:srgbClr val="000000"/>
                </a:solidFill>
                <a:latin typeface="Calibri"/>
                <a:ea typeface="Times New Roman"/>
              </a:rPr>
              <a:t>Duyguyu ve yalın duyguyu ön planda tutan Cahit Sıtkı, uzak çağrışımlara ve hayal oyunlarına pek yer vermez. Ölümden korkan, varlık ötesine gitmekten çekinen, yaşadığı ana sımsıkı bağlı olan Cahit Sıtkı’nın açık ve sade bir üslup kullanması duyuş tarzına da uygundur. O, bu üslup tarzıyla kendinden sonra gelen ve «gerçek-üstü» bir şeyler arayan, karışık, anlaşılması güç bir üslupla karşımıza çıkan nesilden ayrılı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468000" y="411120"/>
            <a:ext cx="7775640" cy="4464000"/>
          </a:xfrm>
          <a:prstGeom prst="rect">
            <a:avLst/>
          </a:prstGeom>
          <a:noFill/>
          <a:ln w="0">
            <a:noFill/>
          </a:ln>
        </p:spPr>
        <p:txBody>
          <a:bodyPr lIns="68760" rIns="68760" tIns="34200" bIns="342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Kaynaklar: </a:t>
            </a:r>
            <a:endParaRPr b="0" lang="en-US" sz="2400" spc="-1" strike="noStrike">
              <a:solidFill>
                <a:srgbClr val="000000"/>
              </a:solidFill>
              <a:latin typeface="Calibri"/>
            </a:endParaRPr>
          </a:p>
          <a:p>
            <a:pPr>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Kaplan, Mehmet, Şiir Tahlilleri  2 - Cumhuriyet Devri Türk Şiiri, Dergâh Yayınları, İst., 2003.</a:t>
            </a:r>
            <a:endParaRPr b="0" lang="en-US" sz="2400" spc="-1" strike="noStrike">
              <a:solidFill>
                <a:srgbClr val="000000"/>
              </a:solidFill>
              <a:latin typeface="Calibri"/>
            </a:endParaRPr>
          </a:p>
          <a:p>
            <a:pPr>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Karasoy, Yakup ve diğerleri, Üniversiteler İçin Uygulamalı Türk Dili ve Kompozisyon Bilgileri, Aybil Yay., Konya, 201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323640" y="484200"/>
            <a:ext cx="7777080" cy="4464000"/>
          </a:xfrm>
          <a:prstGeom prst="rect">
            <a:avLst/>
          </a:prstGeom>
          <a:noFill/>
          <a:ln w="0">
            <a:noFill/>
          </a:ln>
        </p:spPr>
        <p:txBody>
          <a:bodyPr lIns="68760" rIns="68760" tIns="34200" bIns="34200" anchor="t">
            <a:no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	</a:t>
            </a:r>
            <a:r>
              <a:rPr b="0" lang="tr-TR" sz="2400" spc="-1" strike="noStrike">
                <a:solidFill>
                  <a:srgbClr val="000000"/>
                </a:solidFill>
                <a:latin typeface="Calibri"/>
              </a:rPr>
              <a:t>Aşağıda bir şiir incelemesinin nasıl yapılacağını gösteren bir örnek göreceksiniz. </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	</a:t>
            </a:r>
            <a:r>
              <a:rPr b="0" lang="tr-TR" sz="2400" spc="-1" strike="noStrike">
                <a:solidFill>
                  <a:srgbClr val="000000"/>
                </a:solidFill>
                <a:latin typeface="Calibri"/>
              </a:rPr>
              <a:t>Şiir, hepinizin çok iyi bildiği şair Cahit Sıtkı TARANCI’nın </a:t>
            </a:r>
            <a:r>
              <a:rPr b="1" lang="tr-TR" sz="2400" spc="-1" strike="noStrike">
                <a:solidFill>
                  <a:srgbClr val="000000"/>
                </a:solidFill>
                <a:latin typeface="Calibri"/>
              </a:rPr>
              <a:t>Otuz Beş Yaş</a:t>
            </a:r>
            <a:r>
              <a:rPr b="0" lang="tr-TR" sz="2400" spc="-1" strike="noStrike">
                <a:solidFill>
                  <a:srgbClr val="000000"/>
                </a:solidFill>
                <a:latin typeface="Calibri"/>
              </a:rPr>
              <a:t> </a:t>
            </a:r>
            <a:r>
              <a:rPr b="1" lang="tr-TR" sz="2400" spc="-1" strike="noStrike">
                <a:solidFill>
                  <a:srgbClr val="000000"/>
                </a:solidFill>
                <a:latin typeface="Calibri"/>
              </a:rPr>
              <a:t>Şiiri’</a:t>
            </a:r>
            <a:r>
              <a:rPr b="0" lang="tr-TR" sz="2400" spc="-1" strike="noStrike">
                <a:solidFill>
                  <a:srgbClr val="000000"/>
                </a:solidFill>
                <a:latin typeface="Calibri"/>
              </a:rPr>
              <a:t>dir.</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ea typeface="Times New Roman"/>
              </a:rPr>
              <a:t>	</a:t>
            </a:r>
            <a:r>
              <a:rPr b="0" lang="tr-TR" sz="2400" spc="-1" strike="noStrike">
                <a:solidFill>
                  <a:srgbClr val="000000"/>
                </a:solidFill>
                <a:latin typeface="Calibri"/>
                <a:ea typeface="Times New Roman"/>
              </a:rPr>
              <a:t>Önce şiire yer verilecek, daha sonra Mehmet Kaplan’ın </a:t>
            </a:r>
            <a:r>
              <a:rPr b="0" i="1" lang="tr-TR" sz="2400" spc="-1" strike="noStrike">
                <a:solidFill>
                  <a:srgbClr val="000000"/>
                </a:solidFill>
                <a:latin typeface="Calibri"/>
                <a:ea typeface="Times New Roman"/>
              </a:rPr>
              <a:t>Şiir Tahlilleri 2 - Cumhuriyet Devri Türk Şiiri </a:t>
            </a:r>
            <a:r>
              <a:rPr b="0" lang="tr-TR" sz="2400" spc="-1" strike="noStrike">
                <a:solidFill>
                  <a:srgbClr val="000000"/>
                </a:solidFill>
                <a:latin typeface="Calibri"/>
                <a:ea typeface="Times New Roman"/>
              </a:rPr>
              <a:t>adlı eserindeki Otuz Beş Yaş Şiiri’nin incelemesi özetlenerek sunulacaktır.</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ea typeface="Times New Roman"/>
              </a:rPr>
              <a:t>	</a:t>
            </a:r>
            <a:r>
              <a:rPr b="0" lang="tr-TR" sz="2400" spc="-1" strike="noStrike">
                <a:solidFill>
                  <a:srgbClr val="000000"/>
                </a:solidFill>
                <a:latin typeface="Calibri"/>
                <a:ea typeface="Times New Roman"/>
              </a:rPr>
              <a:t>Önce dikkatlice şiiri birkaç defa okuyunuz. Daha sonra incelemeye geçiniz.</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468000" y="410760"/>
            <a:ext cx="8496360" cy="4537080"/>
          </a:xfrm>
          <a:prstGeom prst="rect">
            <a:avLst/>
          </a:prstGeom>
          <a:noFill/>
          <a:ln w="0">
            <a:noFill/>
          </a:ln>
        </p:spPr>
        <p:txBody>
          <a:bodyPr lIns="68760" rIns="68760" tIns="34200" bIns="34200" anchor="t">
            <a:no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000" spc="-1" strike="noStrike">
                <a:solidFill>
                  <a:srgbClr val="000000"/>
                </a:solidFill>
                <a:latin typeface="Calibri"/>
              </a:rPr>
              <a:t>OTUZ BEŞ YAŞ ŞİİRİ</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Yaş otuz beş yolun yarısı eder. </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Dante  gibi ortasındayız ömrün. </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Delikanlı çağımızdaki cevher, </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Yalvarmak, yakarmak nafile bugün, </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Gözünün yaşına bakmadan gider.</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Şakaklarıma kar mı yağdı ne var? </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Benim mi Allahım bu çizgili yüz? </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Ya gözler altındaki mor halkalar? </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Neden böyle düşman görünürsünüz, </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Yıllar yılı dost bildiğim aynala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468000" y="339840"/>
            <a:ext cx="8496360" cy="4680000"/>
          </a:xfrm>
          <a:prstGeom prst="rect">
            <a:avLst/>
          </a:prstGeom>
          <a:noFill/>
          <a:ln w="0">
            <a:noFill/>
          </a:ln>
        </p:spPr>
        <p:txBody>
          <a:bodyPr lIns="68760" rIns="68760" tIns="34200" bIns="342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Zamanla nasıl değişiyor insan!</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Hangi resmime baksam ben değilim.</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Nerde o günler, o şevk, o heyecan?</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Bu güler yüzlü adam ben değilim;</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Yalandır kaygısız olduğum yalan.</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Hayal meyal şeylerden ilk aşkımız;</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Hatırası bile yabancı gelir.</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Hayata beraber başladığımız,</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Dostlarla da yollar ayrıldı bir bir;</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Gittikçe artıyor yalnızlığımız.</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394920" y="483840"/>
            <a:ext cx="8496360" cy="4390920"/>
          </a:xfrm>
          <a:prstGeom prst="rect">
            <a:avLst/>
          </a:prstGeom>
          <a:noFill/>
          <a:ln w="0">
            <a:noFill/>
          </a:ln>
        </p:spPr>
        <p:txBody>
          <a:bodyPr lIns="68760" rIns="68760" tIns="34200" bIns="342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Gökyüzünün başka rengi de varmış!</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Geç farkettim taşın sert olduğunu.</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Su insanı boğar, ateş yakarmış!</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Her doğan günün bir dert olduğunu,</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İnsan bu yaşa gelince anlarmış.</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Ayva sarı nar kırmızı sonbahar!</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Her yıl biraz daha benimsediğim.</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Ne dönüp duruyor havada kuşlar?</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Nerden çıktı bu cenaze? Ölen kim?</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Bu kaçıncı bahçe gördüm tarüma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324000" y="484200"/>
            <a:ext cx="8640720" cy="4464000"/>
          </a:xfrm>
          <a:prstGeom prst="rect">
            <a:avLst/>
          </a:prstGeom>
          <a:noFill/>
          <a:ln w="0">
            <a:noFill/>
          </a:ln>
        </p:spPr>
        <p:txBody>
          <a:bodyPr lIns="68760" rIns="68760" tIns="34200" bIns="342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Neylersin ölüm herkesin başında.</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Uyudun uyanamadın olacak.</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Kimbilir nerde, nasıl, kaç yaşında?</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Bir namazlık saltanatın olacak,</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Taht misali o musalla taşında.</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Cahit Sıtkı TARANC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179280" y="339840"/>
            <a:ext cx="8064720" cy="4680000"/>
          </a:xfrm>
          <a:prstGeom prst="rect">
            <a:avLst/>
          </a:prstGeom>
          <a:noFill/>
          <a:ln w="0">
            <a:noFill/>
          </a:ln>
        </p:spPr>
        <p:txBody>
          <a:bodyPr lIns="68760" rIns="68760" tIns="34200" bIns="342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400" spc="-1" strike="noStrike">
                <a:solidFill>
                  <a:srgbClr val="002060"/>
                </a:solidFill>
                <a:latin typeface="Calibri"/>
              </a:rPr>
              <a:t>Şiirin İncelenmesi</a:t>
            </a:r>
            <a:r>
              <a:rPr b="0" lang="tr-TR" sz="2400" spc="-1" strike="noStrike">
                <a:solidFill>
                  <a:srgbClr val="000000"/>
                </a:solidFill>
                <a:latin typeface="Calibri"/>
              </a:rPr>
              <a:t>	</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200" spc="-1" strike="noStrike">
                <a:solidFill>
                  <a:srgbClr val="000000"/>
                </a:solidFill>
                <a:latin typeface="Calibri"/>
              </a:rPr>
              <a:t>	</a:t>
            </a:r>
            <a:r>
              <a:rPr b="0" i="1" lang="tr-TR" sz="2200" spc="-1" strike="noStrike">
                <a:solidFill>
                  <a:srgbClr val="000000"/>
                </a:solidFill>
                <a:latin typeface="Calibri"/>
              </a:rPr>
              <a:t>Otuz Beş Yaş Şiiri</a:t>
            </a:r>
            <a:r>
              <a:rPr b="0" lang="tr-TR" sz="2200" spc="-1" strike="noStrike">
                <a:solidFill>
                  <a:srgbClr val="000000"/>
                </a:solidFill>
                <a:latin typeface="Calibri"/>
              </a:rPr>
              <a:t>’nde </a:t>
            </a:r>
            <a:r>
              <a:rPr b="0" lang="tr-TR" sz="2200" spc="-1" strike="noStrike">
                <a:solidFill>
                  <a:srgbClr val="000000"/>
                </a:solidFill>
                <a:latin typeface="Calibri"/>
              </a:rPr>
              <a:t>	</a:t>
            </a:r>
            <a:r>
              <a:rPr b="0" lang="tr-TR" sz="2200" spc="-1" strike="noStrike">
                <a:solidFill>
                  <a:srgbClr val="000000"/>
                </a:solidFill>
                <a:latin typeface="Calibri"/>
              </a:rPr>
              <a:t>Cahit Sıtkı, kendisini konu almıştır.  İkinci bölümde de görüldüğü üzere aynada uzun uzun kendini seyrediyor, yüzünün nasıl bozulduğunu üzülerek görüyor, dünya ve dostları ile münasebetlerinin değiştiğini fark ederek, acı bir ironi ile hayatın faniliğini ve ölümü düşünüyor.</a:t>
            </a:r>
            <a:endParaRPr b="0" lang="en-US" sz="22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ea typeface="Times New Roman"/>
              </a:rPr>
              <a:t>	</a:t>
            </a:r>
            <a:r>
              <a:rPr b="0" lang="tr-TR" sz="2200" spc="-1" strike="noStrike">
                <a:solidFill>
                  <a:srgbClr val="000000"/>
                </a:solidFill>
                <a:latin typeface="Calibri"/>
                <a:ea typeface="Times New Roman"/>
              </a:rPr>
              <a:t>Bu duyuş tarzı, Tarancı’nın sadece bu şiirine de has değildir. O, hemen hemen bütün şiirlerinde ölüm ve fanilik temini ele almıştır. </a:t>
            </a:r>
            <a:endParaRPr b="0" lang="en-US" sz="22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ea typeface="Times New Roman"/>
              </a:rPr>
              <a:t>	</a:t>
            </a:r>
            <a:r>
              <a:rPr b="0" lang="tr-TR" sz="2200" spc="-1" strike="noStrike">
                <a:solidFill>
                  <a:srgbClr val="000000"/>
                </a:solidFill>
                <a:latin typeface="Calibri"/>
                <a:ea typeface="Times New Roman"/>
              </a:rPr>
              <a:t>Otuz beş Yaş Şiiri’nde ne varlık ötesi âlem fikri, ne Tanrı, ne de tarihî ve sosyal bir çevre vardır. Cahit Sıtkı, hayatındaki ve vücudundaki değişimleri, fâni bir varlık oluşunu ve ölümünü ıstırap duyarak, fakat hiçbir metafizik fikre kapılmadan ve teselli aramadan âdeta çıplak bir gözle seyrediyo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468000" y="411120"/>
            <a:ext cx="7775640" cy="4392720"/>
          </a:xfrm>
          <a:prstGeom prst="rect">
            <a:avLst/>
          </a:prstGeom>
          <a:noFill/>
          <a:ln w="0">
            <a:noFill/>
          </a:ln>
        </p:spPr>
        <p:txBody>
          <a:bodyPr lIns="68760" rIns="68760" tIns="34200" bIns="34200" anchor="t">
            <a:no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600" spc="-1" strike="noStrike">
                <a:solidFill>
                  <a:srgbClr val="000000"/>
                </a:solidFill>
                <a:latin typeface="Calibri"/>
              </a:rPr>
              <a:t>	</a:t>
            </a:r>
            <a:r>
              <a:rPr b="0" lang="tr-TR" sz="2400" spc="-1" strike="noStrike">
                <a:solidFill>
                  <a:srgbClr val="000000"/>
                </a:solidFill>
                <a:latin typeface="Calibri"/>
              </a:rPr>
              <a:t>Cahit Sıtkı ve Orhan Veli neslinde artık dine ve tarihe karşı bir inanç yoktu. Onlar için sadece «yaşanılan an» önemliydi. Bu nesil «yaşama sevinci»ni adeta bir din haline getirmişlerdi. Fakat ölüm gerçekti ve sosyal sefalet ortadaydı. Bunlar yaşanılan hayatın tatlı aşına zehir katıyordu. </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	</a:t>
            </a:r>
            <a:r>
              <a:rPr b="0" lang="tr-TR" sz="2400" spc="-1" strike="noStrike">
                <a:solidFill>
                  <a:srgbClr val="000000"/>
                </a:solidFill>
                <a:latin typeface="Calibri"/>
              </a:rPr>
              <a:t>Cahit Sıtkı, sosyal konularla pek meşgul olmamıştır. Eserlerinde sık sık ele aldığı tem, «ölüme karşı yaşanılan hayatın güzelliği» fikridir. O, yaşamak şartıyla her mihneti kabule razıdır. </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	</a:t>
            </a:r>
            <a:r>
              <a:rPr b="0" lang="tr-TR" sz="2400" spc="-1" strike="noStrike">
                <a:solidFill>
                  <a:srgbClr val="000000"/>
                </a:solidFill>
                <a:latin typeface="Calibri"/>
              </a:rPr>
              <a:t>Cahit Sıtkı’nın üslubu son derece açık ve sadedir. Bunun sebebi, onun bizzat varlığı güzel bulması ve teşbih, istiare, mecaz gibi sanatlarla süslemeğe lüzum görmemesidi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395280" y="627120"/>
            <a:ext cx="7848720" cy="3943440"/>
          </a:xfrm>
          <a:prstGeom prst="rect">
            <a:avLst/>
          </a:prstGeom>
          <a:noFill/>
          <a:ln w="0">
            <a:noFill/>
          </a:ln>
        </p:spPr>
        <p:txBody>
          <a:bodyPr lIns="68760" rIns="68760" tIns="34200" bIns="34200" anchor="t">
            <a:no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	</a:t>
            </a:r>
            <a:r>
              <a:rPr b="0" lang="tr-TR" sz="2400" spc="-1" strike="noStrike">
                <a:solidFill>
                  <a:srgbClr val="000000"/>
                </a:solidFill>
                <a:latin typeface="Calibri"/>
              </a:rPr>
              <a:t>Bir gün şair, Dante gibi ömrünün yarısına geldiğini fark eder, aynada çehresinin nasıl bozulduğunu görür (birinci ve ikinci bölüm).  Sonra eski günlerini, hayal meyal şeylerden ilk aşkını hatırlar (üçüncü ve dördüncü bölüm).    Daha sonra tekrar hâlihazıra döner.  Dünyayı fanilik duygusunun arkasından seyreder (beşinci ve altıncı bölüm). Neticede şiir, önceden bilinen gerçekle yani ölümle son bulur.</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	</a:t>
            </a:r>
            <a:r>
              <a:rPr b="0" lang="tr-TR" sz="2400" spc="-1" strike="noStrike">
                <a:solidFill>
                  <a:srgbClr val="000000"/>
                </a:solidFill>
                <a:latin typeface="Calibri"/>
              </a:rPr>
              <a:t>Şiire hakim olan zaman şu andır. Otuz beş yaş, yolun ortasında olma durumu, mazi ve istikbale (geçmiş ve geleceğe) bakışı tayin edici bir rol oyna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1T11:00:44Z</dcterms:created>
  <dc:creator>hsn</dc:creator>
  <dc:description/>
  <dc:language>en-US</dc:language>
  <cp:lastModifiedBy>pc</cp:lastModifiedBy>
  <dcterms:modified xsi:type="dcterms:W3CDTF">2018-04-23T19:29:26Z</dcterms:modified>
  <cp:revision>128</cp:revision>
  <dc:subject/>
  <dc:title>3.HAFTA-CÜMLE TÜRLERİ VE CÜMLE ÇÖZÜMLEMELERİ</dc:title>
</cp:coreProperties>
</file>